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7AA-8DBC-401F-994A-6B9E7651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2CCE-7B68-4F5B-B6D0-58F57A67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2EE-BA25-4B33-BA16-D53AA33B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927-39D9-4220-A736-14DFA50D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4AF2-F5BE-4E76-8CF8-949B1E98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11C1-B3BE-4AB5-A1CF-68D72B6C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490-BCEF-48C7-9E84-20C539C9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5E75-1733-4B09-8F60-AD912CF4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61B7-98ED-4F7A-9B05-97C082FA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9A1-E276-434E-8D14-2D527147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1A5-5DF5-4FA6-B227-B8F6C5DA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1D09-1C1E-4BBB-9129-B4D27A77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262B-02A4-4279-8662-FB47EAD2D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issarro.vi/artist.htm" TargetMode="External"/><Relationship Id="rId2" Type="http://schemas.openxmlformats.org/officeDocument/2006/relationships/hyperlink" Target="http://www.nndb.com/people/864/000084612/" TargetMode="External"/><Relationship Id="rId3" Type="http://schemas.openxmlformats.org/officeDocument/2006/relationships/hyperlink" Target="http://www.camillepissarro.org/" TargetMode="External"/><Relationship Id="rId4" Type="http://schemas.openxmlformats.org/officeDocument/2006/relationships/hyperlink" Target="http://e-vint.com/impressionism.html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507600"/>
            <a:ext cx="84502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mille Pissar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8120" y="2031840"/>
            <a:ext cx="4214520" cy="49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iography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5800" y="1219320"/>
            <a:ext cx="9661320" cy="54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issarro was born on July 10, 1830 on the Caribbean island of St.Thomas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 operated a dry goods store and it is now known as the Pissarro Building in Charlotte Amali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rlotte Amalie was a small port tow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mille spoke French at home and Spanish and English to the people of the isla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s parents sent him to Paris at age 12 to a boarding school, and he discovered a love for ar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 liked the landscapes in Pari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s nationality was Dutch and French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f a Jewish relig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f four childr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 married Julie Vellay, in 187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y had eight childr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they Looked Like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 had a very long bear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mille was 73 years old when h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 the second youngest chil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d 8 childr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n he was older he suffered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rm in eye infectio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5880" y="1320840"/>
            <a:ext cx="345780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bout his Painting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2560" y="1609200"/>
            <a:ext cx="407016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rew a lot of oil paintings with many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ssarro liked to paint different landscapes in Paris and London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his life time he sold very few oil paintings, but by 2005 his paintings were selling up to 2-4 million dolla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his paintings were destroyed. Of the 1,500 their were 40 left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3120" y="1627200"/>
            <a:ext cx="490860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aintings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1520" y="2641680"/>
            <a:ext cx="4681440" cy="4635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78440" y="2540160"/>
            <a:ext cx="4932360" cy="466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24600" y="1727280"/>
            <a:ext cx="44100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Boulevard Montmartre on a Winter Morning, 189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rench Impressionis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 a movement in French painting that produced in impression of a subject by using reflected ligh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veloped in the 19th century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ressionists broke many of the rules of picture making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ressionists paintings were easily spotted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their paintings the colors were unmixed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2640" y="299880"/>
            <a:ext cx="9659880" cy="9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pissarro.vi/artist.ht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nndb.com/people/864/000084612/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camillepissarro.org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e-vint.com/impressionism.htm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smith</cp:lastModifiedBy>
  <dcterms:modified xsi:type="dcterms:W3CDTF">2011-10-05T01:26:28Z</dcterms:modified>
  <cp:revision>1</cp:revision>
  <dc:subject/>
  <dc:title>PowerPoint Presentation</dc:title>
</cp:coreProperties>
</file>